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122-AEE4-4DA4-94B1-7A4E12B8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0F7-308D-4D34-9DCE-9A205DE5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592-C7D1-437E-B0C4-FC6CC075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24A-E02F-404B-915A-2F96E5AE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D5F-E81C-40C5-B194-003F9EE8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8F92-BB6B-4D00-86C8-774CE2B88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20C-E374-4D26-ABC9-F47909A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63C-C688-436A-A765-55539A7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FF2-E140-4BE5-A49D-60C839E5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088-7B08-4527-9BC6-9AF540FD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indent="0" algn="ctr">
              <a:lnSpc>
                <a:spcPct val="87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810-68B2-41FC-BA93-A173246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E31-088D-46BF-9FC4-3D25C92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2FE-FA11-44E3-9B67-ABD09C3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128-5132-4005-9DDE-6C4D18F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3CF-CF4E-45D7-AE90-432DAA0E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D63-29A4-4D41-BE19-29A142F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C38-2F03-4A9F-9A79-F25D8DE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7C5-56E2-442E-8589-D3C833AD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2937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1954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1936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58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EB26-B8A4-4DF1-9EDC-8680635D39E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25160" y="1835280"/>
            <a:ext cx="6453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Verdana"/>
              </a:rPr>
              <a:t>Lead Me to the Rock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88720" y="4419720"/>
            <a:ext cx="235404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salm 61:1-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880" y="49528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ar my cry, O God; listen to my prayer.  From the ends of the earth I call to you, I call as my heart grows faint; lead me to the rock that is higher than I.  For you have been my refuge, a strong tower against the fo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53680" y="1770120"/>
            <a:ext cx="61822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448280" y="1295280"/>
            <a:ext cx="61822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ear my cry O God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answer my pray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52960" y="1295280"/>
            <a:ext cx="61822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I'll take refuge 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the shelter of your w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453680" y="1765440"/>
            <a:ext cx="6182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I'll fulfill my vows, day after da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3:16:06Z</dcterms:created>
  <dc:creator>Pete Wade</dc:creator>
  <dc:description/>
  <dc:language>en-US</dc:language>
  <cp:lastModifiedBy>Peter</cp:lastModifiedBy>
  <dcterms:modified xsi:type="dcterms:W3CDTF">2010-04-10T19:21:19Z</dcterms:modified>
  <cp:revision>30</cp:revision>
  <dc:subject/>
  <dc:title>Slide 1</dc:title>
</cp:coreProperties>
</file>